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E4F88-3402-4EC8-867D-38550C8D0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0584F-CD0D-4C21-BB7B-C36232372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7C79C-D800-42ED-B81D-F65D374D3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animals.nationalgeographic.com/animals/fish/anglerfish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B34CD-F1F4-404D-8C2D-8C47C6E4A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pin.primate.wisc.edu/factsheets/image/358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35C96-58E4-4A74-8982-4AB763362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F86B2-B6EC-4BE0-8B3E-65AEE67E5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taken from: http://en.wikipedia.org/wiki/Synsepalum_dulcific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after it is consumed, this berry makes sour foods taste sweet. What are possible applica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 The Octonauts: http://www.bbc.co.uk/cbeebies/programmes/schedules/2015/11/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99471-CA5D-41C8-8D83-12F7A842D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: https://www.ted.com/talks/louie_schwartzberg_the_hidden_beauty_of_poll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867B3-3DC8-4082-AF3C-99577AF473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8B4DA-238C-4D05-A182-FF24C0A1D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44D95-06F0-4B78-AEE7-DE83B5C187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taken from: http://www.greenrooftechnology.com/biod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DF5BD-6EE0-4D7D-BD32-D65A045FE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F0AA7-C2AF-46C1-9342-4A750EAA80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telegraph.co.uk/news/newstopics/howaboutthat/4979164/Pink-dolphin-leads-list-of-top-ten-weird-and-wonderful-animals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FF4B0-B71C-4FAB-8C8F-77C5F7B9E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elistmania.com/juice/10_animals_with_odd_and_funny_defenses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7F881-085D-4B25-B7FF-FCE0A324D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kaisoumizu.blogspot.com/2009/12/night-at-museum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07C9E-8DDB-4B7F-9413-48AEE9165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media.photobucket.com/image/dumbo+octopus/Rkohaku/dumbo-octopus.jpg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A65BC-785C-4B5C-9261-3C4EF2369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amazingdata.com/worlds-strangest-looking-animals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9070-89B7-4697-A65C-546E5DCF8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7CCA-E7C5-49E5-9078-669FD66FB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6CF1-DEAA-440C-98F7-EDC2C2271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1C9F-D8F2-41A6-9721-98324AF38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BC11-BEEF-4E88-8A87-5BA2DD2EA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5A33-12B6-4131-B137-054CB290D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B4DB-9BFC-4057-9078-4347DE8D4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9C3D-249E-4DD5-B7E7-F598DFA72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D226-ADA0-40D0-B031-0C916DB96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B1D2-E6E6-4B12-BC6E-08875AAB0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4CC6-C2F7-4345-BC97-5D190FF2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BD6C-91BD-4F75-A8F1-38CD0EFE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F6B36-4E29-4B41-86C7-BFFD0F0CAF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s://www.ted.com/talks/louie_schwartzberg_the_hidden_beauty_of_pollination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versity of Living Th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ce of Biod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gler Fi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angler-fish_222_600x450"/>
          <p:cNvPicPr/>
          <p:nvPr/>
        </p:nvPicPr>
        <p:blipFill>
          <a:blip r:embed="rId1"/>
          <a:stretch/>
        </p:blipFill>
        <p:spPr>
          <a:xfrm>
            <a:off x="1827360" y="1981080"/>
            <a:ext cx="5487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ite-faced Saki mon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358lg"/>
          <p:cNvPicPr/>
          <p:nvPr/>
        </p:nvPicPr>
        <p:blipFill>
          <a:blip r:embed="rId1"/>
          <a:stretch/>
        </p:blipFill>
        <p:spPr>
          <a:xfrm>
            <a:off x="1500120" y="1981080"/>
            <a:ext cx="6143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use could we have fo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racle Frui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Content Placeholder 2" descr="miraclefruit1.jpg"/>
          <p:cNvPicPr/>
          <p:nvPr/>
        </p:nvPicPr>
        <p:blipFill>
          <a:blip r:embed="rId1"/>
          <a:srcRect l="-16100" t="0" r="-16100" b="0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es Inte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0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 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or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gi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g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Content Placeholder 3" descr="p01j3xns.jpg"/>
          <p:cNvPicPr/>
          <p:nvPr/>
        </p:nvPicPr>
        <p:blipFill>
          <a:blip r:embed="rId1"/>
          <a:srcRect l="0" t="-28157" r="0" b="-28157"/>
          <a:stretch/>
        </p:blipFill>
        <p:spPr>
          <a:xfrm>
            <a:off x="3419640" y="1773360"/>
            <a:ext cx="5325840" cy="46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Inspi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" y="1699920"/>
            <a:ext cx="77025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important to appreciate the interactions of living organisms to understand the importance of preserving biodivers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piration in beauty:  Have a look at this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ED Talk &amp; clip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cinematographer Louie Schwartzberg about his film called “The Hidden Beauty of Pollination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biodiversit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ecies d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uctural d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netic d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Biodiversity"/>
          <p:cNvPicPr/>
          <p:nvPr/>
        </p:nvPicPr>
        <p:blipFill>
          <a:blip r:embed="rId1"/>
          <a:stretch/>
        </p:blipFill>
        <p:spPr>
          <a:xfrm>
            <a:off x="685800" y="977760"/>
            <a:ext cx="77724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is biodiversity importa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it important to maintain populations of organism such a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-nosed m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Star-Nosed-Mole_1365176c"/>
          <p:cNvPicPr/>
          <p:nvPr/>
        </p:nvPicPr>
        <p:blipFill>
          <a:blip r:embed="rId1"/>
          <a:stretch/>
        </p:blipFill>
        <p:spPr>
          <a:xfrm>
            <a:off x="1284120" y="1981080"/>
            <a:ext cx="6573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gfi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Hagfish"/>
          <p:cNvPicPr/>
          <p:nvPr/>
        </p:nvPicPr>
        <p:blipFill>
          <a:blip r:embed="rId1"/>
          <a:stretch/>
        </p:blipFill>
        <p:spPr>
          <a:xfrm>
            <a:off x="1913040" y="1981080"/>
            <a:ext cx="5316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ttlefi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cuttlefish_mike-bartick"/>
          <p:cNvPicPr/>
          <p:nvPr/>
        </p:nvPicPr>
        <p:blipFill>
          <a:blip r:embed="rId1"/>
          <a:stretch/>
        </p:blipFill>
        <p:spPr>
          <a:xfrm>
            <a:off x="1822320" y="1981080"/>
            <a:ext cx="5499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umbo octop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dumbo-octopus"/>
          <p:cNvPicPr/>
          <p:nvPr/>
        </p:nvPicPr>
        <p:blipFill>
          <a:blip r:embed="rId1"/>
          <a:stretch/>
        </p:blipFill>
        <p:spPr>
          <a:xfrm>
            <a:off x="2529000" y="1981080"/>
            <a:ext cx="4084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ill-necked liz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200907082220431710"/>
          <p:cNvPicPr/>
          <p:nvPr/>
        </p:nvPicPr>
        <p:blipFill>
          <a:blip r:embed="rId1"/>
          <a:stretch/>
        </p:blipFill>
        <p:spPr>
          <a:xfrm>
            <a:off x="2514600" y="198108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08T05:10:11Z</dcterms:created>
  <dc:creator>rubina khan</dc:creator>
  <dc:description/>
  <dc:language>en-US</dc:language>
  <cp:lastModifiedBy>rubina khan</cp:lastModifiedBy>
  <dcterms:modified xsi:type="dcterms:W3CDTF">2017-03-08T13:32:02Z</dcterms:modified>
  <cp:revision>55</cp:revision>
  <dc:subject/>
  <dc:title>PowerPoint Presentation</dc:title>
</cp:coreProperties>
</file>